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DDACF-6621-4D54-B8B3-84BD40BC9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3323E-2EC9-4653-BA4E-2F7E674EC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9081-C90B-473A-9269-E22FA94C28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3133F-8C67-4D76-A567-5A47016C46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F4FCC-ACA3-47E9-98A9-3B74E7ACB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23CD7-9D7E-4EBF-9858-CAAD05B43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948CC9-67F9-4789-A38E-EADF66A83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9EF91A-4B29-4111-9EC5-6BBD7108E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1DA5E-18AB-4E16-AABC-C909FCB5C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669CF-0FEA-420D-9879-2F8A6B7C0F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13F2F6-3212-4E5C-9A93-05B4B7EE1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D3FDC-7993-4BCC-BD90-99733217B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FAF66-ED56-4FF0-9C10-18D4FE610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086949-BFDF-46E0-B920-BD37C0BD8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30FD3-BD81-460F-8D2F-C1ED369EC2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D3F5F8-B357-4D84-8B66-0F321471C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89B72-1CEC-4510-AE83-C8D6E149BB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72DCC-BD03-4608-B259-956A0F3047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29138-EE0D-4CA2-AE65-551B2CC486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2BA85-8DB5-4FBD-A140-D284B0C151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4CCCF-2ABB-4173-9C34-A98722B764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2ABCE-7DDA-4673-84DC-87CCAFA34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4116C-03D9-45C2-9199-585B28AB9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C490D-2210-4131-920A-A0F71467D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4A8E6-9C95-496A-988B-8E632FAAAF6B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4D2EC6-FE1B-42AD-AD82-61EE8D0650D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9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transparent signal path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and acknowledge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termine if destination is fre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08440" indent="-221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 pat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locking or Non-bloc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twork is unable to connect stations because all paths are in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blocking network allows th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voice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ort duration cal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all stations to connect (in pairs) at o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some data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c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analog environ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pat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bar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crosspoints grows as square of number of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s of crosspoint prevent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efficient use of cross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stations connected, only a few crosspoints in u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n-block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bar Matrix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145"/>
          <a:stretch/>
        </p:blipFill>
        <p:spPr>
          <a:xfrm>
            <a:off x="2209680" y="1447920"/>
            <a:ext cx="4753080" cy="48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number of cross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than one path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b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Stage Swit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7120"/>
          <a:stretch/>
        </p:blipFill>
        <p:spPr>
          <a:xfrm>
            <a:off x="685800" y="1371600"/>
            <a:ext cx="7848720" cy="538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tion low speed bit stream into pieces that share higher speed stre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DM bus switc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synchronous time division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hrough controlled gates to high speed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lot allows small amount of data onto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line’s gate is enabled for output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connections will need paths through more than on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find a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ili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witches are a tree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routing uses the same approach all th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routing allows for changes in routing depending on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a peer structure for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ssible routes between end offices predefi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lects appropriate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s listed in preference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sets of routes may be used at different ti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ternate Routing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15436"/>
          <a:stretch/>
        </p:blipFill>
        <p:spPr>
          <a:xfrm>
            <a:off x="2205000" y="1409760"/>
            <a:ext cx="4734000" cy="52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Networ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 distance transmission is typically done over a network of switched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not concerned with conte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devices are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uter, terminal, phone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nodes and connections is a 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outed by being switched from node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ing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dible communication with 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dialed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an not be complet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ended ind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o ring ph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lling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pment and trunk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agnostic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of specialist equi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 Seque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phones on hoo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ifts receiver (off hoo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switch signa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responds with dial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ller dials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arget not busy, send ringer signal to target subscr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edback to cal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inging tone, engaged tone, unobtainabl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rget accepts call by lifting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terminates ringing signal and ringing t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 establish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release when Source subscriber hangs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 to Switch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s connected to differen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izes interswitch tru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ff hook signal on trunk, requesting digit register at target switch (for addres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ing switch sends off hook followed by on hook (wink) to show register read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iginating switch sends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0" r="0" b="11112"/>
          <a:stretch/>
        </p:blipFill>
        <p:spPr>
          <a:xfrm>
            <a:off x="685800" y="1371600"/>
            <a:ext cx="7696080" cy="543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 to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pends on subscriber device and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ement of subscriber calls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e com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ame channel for signaling and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no additional transmission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same frequencies as voi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go anywhere a voice signal c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ossible to set up a call on a faulty speech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 of b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signals do not use full 4kHz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signal band within 4kHz used f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sent whether or not voice signals are pre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extra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ower signal rate (narrow bandwid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rawbacks of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transfer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 between entering address (dialing) and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come by use of common channe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signals carried over paths independent of voice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 control signal channel can carry signals for a number of subscriber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ontrol channel for these subscriber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n channel closely tracks interswitch trunk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ociated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itional nodes (signal transfer point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ectively two separate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mon v. In Channel Signa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9679"/>
          <a:stretch/>
        </p:blipFill>
        <p:spPr>
          <a:xfrm>
            <a:off x="685800" y="1371600"/>
            <a:ext cx="7772400" cy="545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6277"/>
          <a:stretch/>
        </p:blipFill>
        <p:spPr>
          <a:xfrm>
            <a:off x="3765600" y="0"/>
            <a:ext cx="5378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ay connect to other nodes only, or to stations and othe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to node links usually multiple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is usually partially conn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redundant connections are desirable for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different switching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i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switc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System Number 7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S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channel signal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mized for 64k digital channel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control, remote control, management and mainten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means of transfer of info in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ll operate over analog and below 64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terrestrial and satellite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S7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point (S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point in the network capable of handling SS7 control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ransfer point (ST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ing point capable of routing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sible for establishing and managing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ation pla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a connection is set up, info is transferred in the information pla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fer Poi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3733" t="0" r="4980" b="6689"/>
          <a:stretch/>
        </p:blipFill>
        <p:spPr>
          <a:xfrm>
            <a:off x="4322880" y="228600"/>
            <a:ext cx="4592520" cy="647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ing Network Struc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P capac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ignaling links that can be handl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ransf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oughput 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umber of S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 and 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ility of network to provide services in the face of STP fail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lephone company web sites (not much technical info - mostly marketing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mple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6337"/>
          <a:stretch/>
        </p:blipFill>
        <p:spPr>
          <a:xfrm>
            <a:off x="1143000" y="1371600"/>
            <a:ext cx="7010280" cy="546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dicated communication path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abli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switching capacity and channel capacity to establish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have intelligence to work out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ing -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nel capacity dedicated for duration of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, capacity was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up (connection) takes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connected, transfer is trans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for voice traffic (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Circuit Switched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1322"/>
          <a:stretch/>
        </p:blipFill>
        <p:spPr>
          <a:xfrm>
            <a:off x="228600" y="1557360"/>
            <a:ext cx="8458200" cy="42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lecomms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cr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s attached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criber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ing cen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office - supports subscri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u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anches between ex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Switch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348"/>
          <a:stretch/>
        </p:blipFill>
        <p:spPr>
          <a:xfrm>
            <a:off x="2438280" y="1371600"/>
            <a:ext cx="371160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4T11:59:01Z</dcterms:created>
  <dc:creator>Adrian J Pullin</dc:creator>
  <dc:description/>
  <dc:language>en-US</dc:language>
  <cp:lastModifiedBy>Adrian J Pullin</cp:lastModifiedBy>
  <dcterms:modified xsi:type="dcterms:W3CDTF">1999-10-20T13:46:15Z</dcterms:modified>
  <cp:revision>32</cp:revision>
  <dc:subject/>
  <dc:title>William Stallings Data and Computer Communications</dc:title>
</cp:coreProperties>
</file>